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748-2F94-4073-AEEE-B11333FE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ADED-2229-4391-B412-99390265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0DFD-970E-48A4-9C0A-BE4AC463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DBD-B631-4F23-8821-A825BDA6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FF2C8-D946-4C9C-9037-AF453DE7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D6171-2147-4217-A433-CD99AB20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A0C09-8871-4E14-BB67-8E19F337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E174E-FD05-4D96-9204-7DF64936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8D503-A55A-4424-B29C-B9E880D6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98FDD-CDC0-42CB-923D-9E53426A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7FD02-8B8F-4083-9C6B-F0FE15CC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92C0-B767-4012-B754-609DDED5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519FF-9866-41CE-B0B0-25D166B6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6E257-9695-46B6-A584-2881B8EF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29B36-E6D5-4B3A-9E72-9DF888D1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BF9F8-DD7B-4E57-816C-8BD57A72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6A584-1225-4CC1-A1F4-EBD27CCE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A52-D920-4C2E-8D95-39FDF048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1FC0-F14F-41F0-AA33-66BF02F7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A949-BF86-4AF7-A13D-522861CC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8819-7674-491C-896B-1C13C488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B59A-1374-4311-8C57-9BAEB3FF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231F-A437-4A64-8FBF-97531E8F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E82B-3EA9-4426-BD73-D5562B02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D648-A74A-4798-A5A6-67E20D688AC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4017-2236-408D-A0B9-E6B936C460A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vi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Complete the sente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I __________________________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已收到两封信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 from my fri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.There are_______________________ 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大量的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in the libr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发现这部电影很令人兴奋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I fi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_____________________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. I ____________________________       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以前从没出过国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But I want 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5. He ________________________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已为那家公司工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for 5 y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17733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ve received two le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49228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great number of b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371628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s film very exci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422100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ve never been  abroad befor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79640" y="494172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s worked for that firm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8080" y="1295280"/>
            <a:ext cx="7086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Lesson 5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No wrong numb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4560" y="333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45720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ir work: Discuss  the following 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066680"/>
            <a:ext cx="8820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here has Mr. James Scott just bought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garage?  How far is it from Silbue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 Can he get a telephone for his new gar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What did he buy and how many has he bough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What happened yester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 How long did the bird cover the dista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. What has he sent requests fo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. What kinds of messages do they car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76280"/>
            <a:ext cx="813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260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Retell the story using  the key wor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914400"/>
            <a:ext cx="82803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Mr. James Scott→  garage→  Silbury and now→  just bought→  Pinhur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2. Pinhurst →five miles→ Silbury→ can’t →telephone→ garage →bought →pige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. Yesterday→ pigeon→ message→ Pinhu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4. covered →distance→ minu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5. up to now →sent requests→ spare parts →messages→ garage→ the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6. this way→ begun→ private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22240" y="958680"/>
            <a:ext cx="786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381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Mr.James Scott has a garage in Silbury and now he 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has just bought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another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 garage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in Pinhurst. Pinhurst is only five miles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from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ibury, but Mr. Scott cannot get a telephone for his new garage, so he has just bought twelve pigeons. Yesterday, a pigeon carried the first message 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from Pinhurst to Silbury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 The bird </a:t>
            </a:r>
            <a:r>
              <a:rPr b="0" lang="zh-CN" sz="3200" spc="-1" strike="noStrike" u="sng">
                <a:solidFill>
                  <a:srgbClr val="33cccc"/>
                </a:solidFill>
                <a:uFillTx/>
                <a:latin typeface="Arial"/>
              </a:rPr>
              <a:t>covered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 the distance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33cccc"/>
                </a:solidFill>
                <a:uFillTx/>
                <a:latin typeface="Arial"/>
              </a:rPr>
              <a:t>in three minutes. Up to now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 Mr. Scott has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sent </a:t>
            </a:r>
            <a:r>
              <a:rPr b="0" lang="zh-CN" sz="3200" spc="-1" strike="noStrike" u="sng">
                <a:solidFill>
                  <a:srgbClr val="33cccc"/>
                </a:solidFill>
                <a:uFillTx/>
                <a:latin typeface="Arial"/>
              </a:rPr>
              <a:t>a great many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requests f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spare part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oth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urgent messages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from 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one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garage to 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the oth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zh-CN" sz="3200" spc="-1" strike="noStrike" u="sng">
                <a:solidFill>
                  <a:srgbClr val="33cccc"/>
                </a:solidFill>
                <a:uFillTx/>
                <a:latin typeface="Arial"/>
              </a:rPr>
              <a:t>In this way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 he has begun his own private “telephone”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er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1.another+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单数名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或直接作代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2.other+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复数或单数名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代词为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3.one…the other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特指两个事物的一个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另一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This apple is green. Can you show me another one/ ano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Where are the other peop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ay no attention to what others s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The little girl slowly closed ____ eye and then 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Message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消息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音信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口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I have a message for you from Mr. John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Can you leave a message for Mr. Smith asking him to phone me bac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你能给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Mr. Smith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捎个口信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叫他给我回电话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Service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服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The service here is very slow; sometimes you have to wait ten minutes for ser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fter-servic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售后服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 self-service restauran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自助餐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Room servic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饭店把饭菜等送到房间的服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Up to / till /until now=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表示“到目前为止”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与现在完成时连用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到目前为止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只读过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外国小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Up to now, I have only read five foreign no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到目前为止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她已得了三个奖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UP till now, she has won three priz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Arial"/>
              </a:rPr>
              <a:t>Summary wri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Mr. Scott has opened his second garage in Pinhurst. His first garage is in Sibury. Silbury is five miles away. Mr. Scott cannot get a telephone for his new garage. He has bought twelve pigeons. They carry messages from one garage to the other in three minu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7:04:15Z</dcterms:created>
  <dc:creator/>
  <dc:description/>
  <dc:language>en-US</dc:language>
  <cp:lastModifiedBy>tyz</cp:lastModifiedBy>
  <dcterms:modified xsi:type="dcterms:W3CDTF">2003-03-23T00:38:43Z</dcterms:modified>
  <cp:revision>11</cp:revision>
  <dc:subject/>
  <dc:title>幻灯片 1</dc:title>
</cp:coreProperties>
</file>